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4AB-BF81-4A09-91B3-71ADB790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385-D70D-49A9-A957-EFFED856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448-4175-4174-A045-556988EA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594-F605-4845-AC11-FC93078D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DC5-4D2E-467E-82A3-59149C6A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2B0-F627-4CAD-846F-E968C579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8F7-966F-43C4-ACFE-42EFC8BA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750-A73F-4EC4-8575-A1396E3B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95D-C6DC-4222-95BA-4050FF15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68E-D6B6-4DFF-A6C8-ACDC6D7C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255-D3BA-448E-89CE-9DAD4C5B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20D-18BC-4081-82E1-C406F57E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ED7E-446F-4C40-ACDC-F72AFDB80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upeni-lyceum.ru/editor/uploads/files/libr_bi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-crimea.info/pictures/h_lh0BdVaTwW36DkNYSIZcp5e9gjn8QFPz_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ooklya.com.ua/files/books/7774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Библиотеки, энциклопеди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и словар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в Интер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СОШ №1 г. Спас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Библиоте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реч. bibliothēkē, от biblíon — книга и thēkē — хранилище) </a:t>
            </a: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то культурно-просветительное и научно вспомогательное учреждение, организующее общественное пользование произведениями печа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20 из 1163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645000"/>
            <a:ext cx="4032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Электронная библиотека – это распределенная информационная система, позволяющая надежно сохранять и эффективно использовать разнородные коллекции электронных документов через глобальные сети передач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в удобном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конеч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пользователя вид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1 из 4498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645000"/>
            <a:ext cx="41608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Российская государстве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rs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Библиотека Мо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li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Научная электро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elibrar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Энциклопедия</a:t>
            </a:r>
            <a:r>
              <a:rPr b="1" i="1" lang="ru-RU" sz="26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от греч . enkyklios paideia - обучение по всему кругу знаний)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научное или научно-популярное справочное издание, содержащее систематизированный свод знани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3610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Электронная энциклопедия может быть копией печатной энциклопедии или оригинальным электронным изд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0 из 3672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637000"/>
            <a:ext cx="3103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лектронные энцикло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dic.academi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ru.wikipedia.org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Круго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 krugosve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Словарь — книга, содержащая собрание слов, расположенных по определённому принципу, и дающая сведения об их значениях, употреблении, происхождении, переводе на другой язык и т. п. или информацию о понятиях и предметах, ими обозначаемых, о деятелях в каких-либо областях науки, культуры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27280" y="4221000"/>
            <a:ext cx="432000" cy="43200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149720"/>
            <a:ext cx="576360" cy="43164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4797360"/>
            <a:ext cx="3229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энциклопед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48360" y="4797360"/>
            <a:ext cx="3228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лингвист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переводчик – это программа, позволяющая переводить тексты, с сохранением исходного форматирования, и электронные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4869000"/>
            <a:ext cx="8218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словарь – это программа, которая обеспечивает перевод слов с русского языка на другой и на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25 из 622"/>
          <p:cNvPicPr/>
          <p:nvPr/>
        </p:nvPicPr>
        <p:blipFill>
          <a:blip r:embed="rId2"/>
          <a:srcRect l="3315" t="4973" r="4807" b="3978"/>
          <a:stretch/>
        </p:blipFill>
        <p:spPr>
          <a:xfrm rot="120000">
            <a:off x="3349800" y="2135160"/>
            <a:ext cx="4030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Онлайновый переводчик ПРОМ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translat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lingv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30T08:08:46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